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954600" y="-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5480" cy="345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748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954600" y="8748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0747-4BA7-4FCB-96AA-597211CD4B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5695-5217-48D8-9662-B3FF5E076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. 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535A-96C2-4EF8-AE71-CD0DF0737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9E5B-EC65-47AF-8FC3-89763FE95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D251-DE85-45E3-9D56-1C353035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2AC-FCBD-4E2E-A8C5-F190C62A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3D7-9653-49EA-ABF7-15217DD9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AA0-0BDE-4F05-AFC8-829A19C1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D81D-19DF-43C2-8B93-7881DCEB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AF18-13FC-4277-9DB3-1362C899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7CF6-982E-4A42-B9A3-15F5F4A7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C676-D932-4E1D-B6A4-A77AB249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A747-12BE-4CE4-AF23-D252836C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C06E-6B2B-4A5F-9A7D-BFB71C41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C175-14DA-4531-B85F-23439380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11D-E5E3-445A-8226-426CBD38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6028-330A-40A7-BBCC-7E8E1A57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587C-FC26-4451-A016-0EA29AD0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A6B7-3B3D-4537-BDA9-3F6CB5A2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FD23-3C8D-4786-BEBB-4F46E98F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1017-B035-495B-ADEB-24C71AB2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3B05B-A524-4CE2-BE83-ED68FE1C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1DF61-C63A-438F-B0CA-F3393020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EDAA-E229-4DC5-BC49-4286331A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BBC7E-E071-4224-BEE9-8AD32109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69F63-AAD6-4120-81F5-9D4C14EC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1AA-6269-4B64-A8C8-9EEA3AAF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4F042-924E-40B8-986D-8072EB69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7EF91-DACA-49DB-8279-93CC32AA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C8F1D-FA93-4CD4-A4C9-5503A28A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0A38-EE81-4F51-AD4B-04F371FE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0C455-644E-4287-AF01-27A4F1B9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3C6DD-E971-4079-A9D1-6783F9CE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8E77E-EF46-4BE8-8B88-C28763A9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023A5-3172-4D5B-85B3-FE6D8FB6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DBB64-CEDA-49E1-9038-6FB467FA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755BE-E000-4956-8F3F-27AFC1D1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B4D-2FC2-4DBA-9709-A5DD8D19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BE516-3120-442D-8163-4653DEDE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C2866-C4E4-40CC-B975-38C741CC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3BE9B-A6B1-4BD5-B8D1-67E9B5C0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907A3-5DC1-47D2-9D81-BA77BCA5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D00F7-5DDF-4941-B127-3006FDB3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96274-3E58-4586-9A3F-FABF3B26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D4E90-FD21-4222-96D0-E46B4AD7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66B53-408B-4279-BB4D-344BAFFE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DDC67-7037-4A12-B93E-1D88E71E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603BE-AF6C-48F7-BE8C-B5562881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3A9-2B39-4F61-8C09-AF2725FC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5452A-FEBE-4DF3-8BB5-4C51D3F6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B5155-7AF9-43D4-8D9D-8A6D31D7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E65A3-382F-4F44-8C29-1028FA9B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64C75-DDA6-4930-B4EC-23004352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BAE1A-CEA3-4489-B464-DC3DFA97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946C7-255E-4411-9F9E-9BBD0BA8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1B355-C2BA-42DF-A8B0-E33273DD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BD857-CDD6-4C9B-8C91-377F3194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3ABD6-1CE3-48DF-997F-1E230529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F78EC-CE4F-4868-B57A-EE646335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215-EAB2-4EFC-9D18-DAF715C5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2EF84-7815-48C8-89F8-AEA4BF4F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C588D-AF08-4A4F-B7E4-F477B3F3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F9A1D-D230-43C6-ABF3-40792ABA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01E8D-DC14-439E-8DD1-F4E2A849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0B910-C785-41DC-B782-D7C161FF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E0E57-FCAF-4142-A4A6-2B5C0CA1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12D4E-DBB9-4FF4-ACD2-3710268A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C52B7-140A-4616-8451-755844F5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08236-69CB-4A62-A469-2AE7800A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A55B3-4E9C-4D5A-9CD7-0F295A6B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D58-87BC-4F5A-A8C9-D789659B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6B599-4126-4971-86C2-6BC3E832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D6F51-2B7E-4980-91F8-E49BF9DC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05D1C-6E63-4529-9917-EF25E198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4CD04-CF9F-430F-83EB-7417F0D7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3F1D2-62DE-44D6-B076-09229C70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D066A-C684-402E-8401-649BE71B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25005-D91D-4295-837B-64025BEA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C9C49-97A4-4A08-8F89-76F836ED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2B201-9F73-41BD-A26C-5F032439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358D5-6A13-4687-B04F-6B5C4DED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D54-6489-4993-8E96-98089EA0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B076B-3D4B-44B8-82D8-D72A713D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1DD72-17D4-4E5F-9A0A-01E314BD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05A07-06E2-4191-BDD4-A35B5581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0F44A-EF47-4F2A-85F9-47B6AE9A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AE567-D4CF-45D7-8BD1-DBA3E1D0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637-1E5E-44AF-AC06-477CC754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5D79-E662-4686-8247-E1E54EC521C8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07C9-B230-48AF-882D-EDE1370B0C00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63080" y="6180120"/>
            <a:ext cx="531360" cy="408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8DC3-F080-4F86-A45A-8ADB90706E92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5B09-D0D7-4BEA-8517-02D5C1F5FA67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EAAC-645A-4EC4-997F-5B69A31D3748}" type="slidenum">
              <a:rPr b="0" lang="en-US" sz="1600" spc="-1" strike="noStrike">
                <a:solidFill>
                  <a:srgbClr val="434342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2550-2486-4744-BCDA-122EE254096C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5943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4924-98FB-4102-A9DC-7B301F26EB40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809880" y="594324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320320" y="6012720"/>
            <a:ext cx="808200" cy="337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Slide </a:t>
            </a:r>
            <a:fld id="{83B765F5-A21A-4411-AB66-0E160F0D29F8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 rot="19140000">
            <a:off x="245880" y="1626480"/>
            <a:ext cx="68040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Data Teams at stanton network schoo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in the context of THE seed teacher eval progra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resented by Billie Shea &amp; Jane Cook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dapted from materials developed by the Leadership and Learning Center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8153280" y="6095880"/>
            <a:ext cx="750960" cy="577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Franklin Gothic Book"/>
              </a:rPr>
              <a:t>Slide </a:t>
            </a:r>
            <a:fld id="{E787A700-2993-4D6D-A589-023F6F26424B}" type="slidenum">
              <a:rPr b="0" lang="en-US" sz="15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ata Team Actio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Data Teams adhere to continuous improvement cycles, examine patterns and trends, and establish specific timelines, roles, and responsibilities to facilitate analysis that results in action.</a:t>
            </a:r>
            <a:r>
              <a:rPr b="0" lang="ja-JP" sz="2400" spc="-1" strike="noStrike">
                <a:solidFill>
                  <a:srgbClr val="000000"/>
                </a:solidFill>
                <a:latin typeface="Franklin Gothic Book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(S. White,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Beyond the Numbers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, 2005, p. 18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tle 1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Illustration of Core Requirements 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of SEED Teacher Evaluation PILO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315" name="Straight Arrow Connector 9"/>
          <p:cNvCxnSpPr>
            <a:stCxn id="316" idx="2"/>
            <a:endCxn id="317" idx="0"/>
          </p:cNvCxnSpPr>
          <p:nvPr/>
        </p:nvCxnSpPr>
        <p:spPr>
          <a:xfrm>
            <a:off x="1176480" y="1820520"/>
            <a:ext cx="1124640" cy="826200"/>
          </a:xfrm>
          <a:prstGeom prst="straightConnector1">
            <a:avLst/>
          </a:prstGeom>
          <a:ln w="25560">
            <a:solidFill>
              <a:srgbClr val="797b7e"/>
            </a:solidFill>
            <a:miter/>
            <a:tailEnd len="med" type="arrow" w="med"/>
          </a:ln>
        </p:spPr>
      </p:cxnSp>
      <p:cxnSp>
        <p:nvCxnSpPr>
          <p:cNvPr id="318" name="Straight Arrow Connector 12"/>
          <p:cNvCxnSpPr>
            <a:stCxn id="319" idx="2"/>
            <a:endCxn id="317" idx="0"/>
          </p:cNvCxnSpPr>
          <p:nvPr/>
        </p:nvCxnSpPr>
        <p:spPr>
          <a:xfrm flipH="1">
            <a:off x="2300040" y="2314440"/>
            <a:ext cx="1094400" cy="332640"/>
          </a:xfrm>
          <a:prstGeom prst="straightConnector1">
            <a:avLst/>
          </a:prstGeom>
          <a:ln w="25560">
            <a:solidFill>
              <a:srgbClr val="797b7e"/>
            </a:solidFill>
            <a:miter/>
            <a:tailEnd len="med" type="arrow" w="med"/>
          </a:ln>
        </p:spPr>
      </p:cxnSp>
      <p:grpSp>
        <p:nvGrpSpPr>
          <p:cNvPr id="320" name="Group 18"/>
          <p:cNvGrpSpPr/>
          <p:nvPr/>
        </p:nvGrpSpPr>
        <p:grpSpPr>
          <a:xfrm>
            <a:off x="270000" y="990720"/>
            <a:ext cx="8645400" cy="3914640"/>
            <a:chOff x="270000" y="990720"/>
            <a:chExt cx="8645400" cy="3914640"/>
          </a:xfrm>
        </p:grpSpPr>
        <p:sp>
          <p:nvSpPr>
            <p:cNvPr id="316" name="TextBox 2"/>
            <p:cNvSpPr/>
            <p:nvPr/>
          </p:nvSpPr>
          <p:spPr>
            <a:xfrm>
              <a:off x="270000" y="990720"/>
              <a:ext cx="1811160" cy="82404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Student Growth and Development (45%)</a:t>
              </a:r>
              <a:endParaRPr b="0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9" name="TextBox 3"/>
            <p:cNvSpPr/>
            <p:nvPr/>
          </p:nvSpPr>
          <p:spPr>
            <a:xfrm>
              <a:off x="2449440" y="990720"/>
              <a:ext cx="1887480" cy="131076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Whole-school Student Learning Indicators or Student Feedback (5%)</a:t>
              </a:r>
              <a:endParaRPr b="0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1" name="TextBox 4"/>
            <p:cNvSpPr/>
            <p:nvPr/>
          </p:nvSpPr>
          <p:spPr>
            <a:xfrm>
              <a:off x="4794480" y="990720"/>
              <a:ext cx="1811160" cy="82404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Observations of Performance and  Practice (40%)</a:t>
              </a:r>
              <a:endParaRPr b="0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2" name="TextBox 5"/>
            <p:cNvSpPr/>
            <p:nvPr/>
          </p:nvSpPr>
          <p:spPr>
            <a:xfrm>
              <a:off x="7102440" y="990720"/>
              <a:ext cx="1812960" cy="58068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Peer or Parent Feedback (10%)</a:t>
              </a:r>
              <a:endParaRPr b="0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3" name="TextBox 6"/>
            <p:cNvSpPr/>
            <p:nvPr/>
          </p:nvSpPr>
          <p:spPr>
            <a:xfrm>
              <a:off x="6004080" y="2627280"/>
              <a:ext cx="1812960" cy="91692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Practice Rating (based on Cause Data) (50%)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17" name="TextBox 7"/>
            <p:cNvSpPr/>
            <p:nvPr/>
          </p:nvSpPr>
          <p:spPr>
            <a:xfrm>
              <a:off x="1393920" y="2646360"/>
              <a:ext cx="1812960" cy="91692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Outcome Rating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(based on Effects Data) (50%)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4" name="TextBox 8"/>
            <p:cNvSpPr/>
            <p:nvPr/>
          </p:nvSpPr>
          <p:spPr>
            <a:xfrm>
              <a:off x="1393920" y="4262760"/>
              <a:ext cx="6423120" cy="64260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All factors are combined to reach each teacher</a:t>
              </a:r>
              <a:r>
                <a:rPr b="0" lang="ja-JP" sz="18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’</a:t>
              </a: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s final annual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Calibri"/>
                </a:rPr>
                <a:t>rating (as described in the Connecticut guidelines).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cxnSp>
          <p:nvCxnSpPr>
            <p:cNvPr id="325" name="Straight Arrow Connector 10"/>
            <p:cNvCxnSpPr>
              <a:stCxn id="323" idx="2"/>
              <a:endCxn id="324" idx="0"/>
            </p:cNvCxnSpPr>
            <p:nvPr/>
          </p:nvCxnSpPr>
          <p:spPr>
            <a:xfrm flipH="1">
              <a:off x="4605120" y="3551040"/>
              <a:ext cx="2305440" cy="711720"/>
            </a:xfrm>
            <a:prstGeom prst="straightConnector1">
              <a:avLst/>
            </a:prstGeom>
            <a:ln w="25560">
              <a:solidFill>
                <a:srgbClr val="797b7e"/>
              </a:solidFill>
              <a:miter/>
              <a:tailEnd len="med" type="arrow" w="med"/>
            </a:ln>
          </p:spPr>
        </p:cxnSp>
        <p:cxnSp>
          <p:nvCxnSpPr>
            <p:cNvPr id="326" name="Straight Arrow Connector 11"/>
            <p:cNvCxnSpPr/>
            <p:nvPr/>
          </p:nvCxnSpPr>
          <p:spPr>
            <a:xfrm flipH="1">
              <a:off x="6832440" y="1638360"/>
              <a:ext cx="984960" cy="1008720"/>
            </a:xfrm>
            <a:prstGeom prst="straightConnector1">
              <a:avLst/>
            </a:prstGeom>
            <a:ln w="25560">
              <a:solidFill>
                <a:srgbClr val="797b7e"/>
              </a:solidFill>
              <a:miter/>
              <a:tailEnd len="med" type="arrow" w="med"/>
            </a:ln>
          </p:spPr>
        </p:cxnSp>
        <p:cxnSp>
          <p:nvCxnSpPr>
            <p:cNvPr id="327" name="Straight Arrow Connector 13"/>
            <p:cNvCxnSpPr>
              <a:stCxn id="317" idx="2"/>
              <a:endCxn id="324" idx="0"/>
            </p:cNvCxnSpPr>
            <p:nvPr/>
          </p:nvCxnSpPr>
          <p:spPr>
            <a:xfrm>
              <a:off x="2300040" y="3570480"/>
              <a:ext cx="2305440" cy="692640"/>
            </a:xfrm>
            <a:prstGeom prst="straightConnector1">
              <a:avLst/>
            </a:prstGeom>
            <a:ln w="25560">
              <a:solidFill>
                <a:srgbClr val="797b7e"/>
              </a:solidFill>
              <a:miter/>
              <a:tailEnd len="med" type="arrow" w="med"/>
            </a:ln>
          </p:spPr>
        </p:cxnSp>
        <p:cxnSp>
          <p:nvCxnSpPr>
            <p:cNvPr id="328" name="Straight Arrow Connector 14"/>
            <p:cNvCxnSpPr>
              <a:stCxn id="321" idx="2"/>
            </p:cNvCxnSpPr>
            <p:nvPr/>
          </p:nvCxnSpPr>
          <p:spPr>
            <a:xfrm>
              <a:off x="5700960" y="1820520"/>
              <a:ext cx="1132560" cy="826200"/>
            </a:xfrm>
            <a:prstGeom prst="straightConnector1">
              <a:avLst/>
            </a:prstGeom>
            <a:ln w="25560">
              <a:solidFill>
                <a:srgbClr val="797b7e"/>
              </a:solidFill>
              <a:miter/>
              <a:tailEnd len="med" type="arrow" w="med"/>
            </a:ln>
          </p:spPr>
        </p:cxnSp>
      </p:grpSp>
      <p:sp>
        <p:nvSpPr>
          <p:cNvPr id="329" name="Date Placeholder 1"/>
          <p:cNvSpPr/>
          <p:nvPr/>
        </p:nvSpPr>
        <p:spPr>
          <a:xfrm>
            <a:off x="4114800" y="6400800"/>
            <a:ext cx="45324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Adapted from CSDE Teacher Evaluation Orientation, 8/10/12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0" y="6259680"/>
            <a:ext cx="1143000" cy="59832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5"/>
          <p:cNvSpPr/>
          <p:nvPr/>
        </p:nvSpPr>
        <p:spPr>
          <a:xfrm>
            <a:off x="8229600" y="6172200"/>
            <a:ext cx="674640" cy="5014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Franklin Gothic Book"/>
              </a:rPr>
              <a:t>Slide </a:t>
            </a:r>
            <a:fld id="{9C6A6356-90E3-44BE-9CEC-A11B3392ACD5}" type="slidenum">
              <a:rPr b="0" lang="en-US" sz="13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TextBox 20"/>
          <p:cNvSpPr/>
          <p:nvPr/>
        </p:nvSpPr>
        <p:spPr>
          <a:xfrm>
            <a:off x="76320" y="1981080"/>
            <a:ext cx="131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tudent Learning Objectives (SLOs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TextBox 25"/>
          <p:cNvSpPr/>
          <p:nvPr/>
        </p:nvSpPr>
        <p:spPr>
          <a:xfrm>
            <a:off x="7572240" y="18288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Observations &amp; Survey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Straight Connector 27"/>
          <p:cNvSpPr/>
          <p:nvPr/>
        </p:nvSpPr>
        <p:spPr>
          <a:xfrm>
            <a:off x="4572000" y="990720"/>
            <a:ext cx="33480" cy="3124080"/>
          </a:xfrm>
          <a:prstGeom prst="line">
            <a:avLst/>
          </a:prstGeom>
          <a:ln w="9360">
            <a:solidFill>
              <a:srgbClr val="76787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8153280" y="6095880"/>
            <a:ext cx="750960" cy="577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Franklin Gothic Book"/>
              </a:rPr>
              <a:t>Slide </a:t>
            </a:r>
            <a:fld id="{BD2463D0-FC56-487D-A34A-CD38FB0A2B92}" type="slidenum">
              <a:rPr b="0" lang="en-US" sz="15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75960"/>
            <a:ext cx="752184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ata Team Proces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763560"/>
            <a:ext cx="8229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Collect and chart data AKA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reasure Hu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Analyze strengths and obstacl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Establish SMART goals that are Specific, Measurable, Achievable, Relevant/Realistic, and Timely: Set, Review, Revis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Select instructional strategies:  What effective teaching strategies will adults use to help students achieve SMART goals?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Determine results indicators:  What measures will we use?  How will we know that we have succeeded?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365040"/>
            <a:ext cx="8077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OW The data Team process aligns with setting Student learning objectives IN SEED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2240" y="1100160"/>
          <a:ext cx="7521840" cy="3608280"/>
        </p:xfrm>
        <a:graphic>
          <a:graphicData uri="http://schemas.openxmlformats.org/drawingml/2006/table">
            <a:tbl>
              <a:tblPr/>
              <a:tblGrid>
                <a:gridCol w="3760920"/>
                <a:gridCol w="3760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he Data Team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acher Goal Setting 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1:  Treasure H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seline Data/Background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2:  Identify strengths and weak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LO &amp; Rationale for 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3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blish SMART go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et IAG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4: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ect instructional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rategies/Actions to achieve S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2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5:  Identify results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terim Assessments &amp; Data Collection/Assessment of Progress Toward Achieving the S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4"/>
          <p:cNvSpPr/>
          <p:nvPr/>
        </p:nvSpPr>
        <p:spPr>
          <a:xfrm>
            <a:off x="3809880" y="5943600"/>
            <a:ext cx="4267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Slide Number Placeholder 5"/>
          <p:cNvSpPr/>
          <p:nvPr/>
        </p:nvSpPr>
        <p:spPr>
          <a:xfrm>
            <a:off x="8153280" y="5943600"/>
            <a:ext cx="838440" cy="5335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Slide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F253-1F4E-47C6-9D71-93E3149C87C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 Leadership/Learning Matrix (L2 Matrix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914400" y="914400"/>
          <a:ext cx="7620120" cy="418464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205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uc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w understanding of antece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plication of success un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ccess un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ea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 resul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 understanding of antece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plication of success 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osing G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w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w understanding of antece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plication of failure 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w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 understanding of antece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plication of mistakes un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Text Box 36"/>
          <p:cNvSpPr/>
          <p:nvPr/>
        </p:nvSpPr>
        <p:spPr>
          <a:xfrm>
            <a:off x="1523880" y="510552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Antecedents – Adult Actions/Intervention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ause Dat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Text Box 37"/>
          <p:cNvSpPr/>
          <p:nvPr/>
        </p:nvSpPr>
        <p:spPr>
          <a:xfrm rot="10800000">
            <a:off x="304560" y="151920"/>
            <a:ext cx="6069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Effects/Results Dat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4:20:56Z</dcterms:created>
  <dc:creator>Jane Cook</dc:creator>
  <dc:description/>
  <dc:language>en-US</dc:language>
  <cp:lastModifiedBy>Jane Cook</cp:lastModifiedBy>
  <cp:lastPrinted>2012-10-23T14:50:55Z</cp:lastPrinted>
  <dcterms:modified xsi:type="dcterms:W3CDTF">2013-08-22T21:30:56Z</dcterms:modified>
  <cp:revision>56</cp:revision>
  <dc:subject/>
  <dc:title>Data Teams  at Windham Middle School</dc:title>
</cp:coreProperties>
</file>